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84EE-8CA0-4C2F-AA19-170447BD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C392-4FFB-451E-BF16-6AA9CE34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B347-8610-42D1-9BF4-30B341B0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51B9-51BC-404B-89E3-C3BBB4E6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36DE-414D-4C3C-AE97-38423DDC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8272-5C81-4FBC-97A1-EE6501D9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986A-FE77-4DEA-AC72-5C9C7210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1B69-54BC-48D9-8D0C-F667CE6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8C52-BB3F-4F8C-BBCA-F3E5F9F2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8C04-9DCA-4CD2-A7D4-8C81ADAC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7891-B329-45B3-9652-05EA31A4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5B08-CB25-4755-8F2D-DBF0FF1F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FCF4-B8A1-4BF3-93E4-FFF0DD57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9FA0-77A5-4CCC-9830-21B69A1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C7D8-88D4-48CE-9633-B9B20B48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5BA9-C294-4DB1-A249-09192AE7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140D-5AAE-466B-83BA-D2DD6881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100C-3DE5-4F6F-8F2D-CD854D66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8C45-2C07-4633-A05E-E1E922B8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FB22-32CE-46CB-AEDD-E85612CC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0BC2-8030-42D0-8E7C-6BFB099A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89A3-B6F5-4EA7-9E22-BBC1424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C20F-06B1-4A7C-9EF3-B6F05D3D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FD1C-227E-48B7-B6F1-AED0D54B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F742-615B-46A7-9EC2-47456780348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BCCB-F407-40BE-A290-6A52A24C3DA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730950&amp;memlevel=C&amp;a=c&amp;q=disabled%20man&amp;s=1&amp;e=30&amp;show=all&amp;c=&amp;cid=&amp;findincat=&amp;g=&amp;cc=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41542&amp;memlevel=C&amp;a=c&amp;q=handicapped&amp;s=91&amp;e=106&amp;show=all&amp;c=&amp;cid=&amp;findincat=&amp;g=&amp;cc=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97738&amp;memlevel=C&amp;a=c&amp;q=handicapped&amp;s=91&amp;e=106&amp;show=all&amp;c=&amp;cid=&amp;findincat=&amp;g=&amp;cc=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786&amp;memlevel=B&amp;a=c&amp;q=handicapped&amp;s=61&amp;e=90&amp;show=all&amp;c=&amp;cid=&amp;findincat=&amp;g=&amp;cc=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048&amp;memlevel=C&amp;a=c&amp;q=handicapped&amp;s=31&amp;e=60&amp;show=all&amp;c=&amp;cid=&amp;findincat=&amp;g=&amp;cc=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U2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Disability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  北京四中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870120"/>
            <a:ext cx="73152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057400"/>
            <a:ext cx="446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52360" y="946080"/>
            <a:ext cx="745812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ckground introduction</a:t>
            </a:r>
            <a:br>
              <a:rPr sz="48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95480" y="2362320"/>
            <a:ext cx="314028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awking_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00400" y="685800"/>
            <a:ext cx="268272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732840"/>
            <a:ext cx="78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Stephen Hawking was born on 8 January 1942, the 300th anniversary of Galileo's death. He is considered as the greatest mind in physics since Albert Einste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3" descr="Stephen Hawking"/>
          <p:cNvPicPr/>
          <p:nvPr/>
        </p:nvPicPr>
        <p:blipFill>
          <a:blip r:embed="rId1"/>
          <a:stretch/>
        </p:blipFill>
        <p:spPr>
          <a:xfrm>
            <a:off x="1676520" y="9144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1525320"/>
            <a:ext cx="648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59 won a scholarship to Oxford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University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62 went to Cambridge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University  for a PhD in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cosmology.                         1968 published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Large Scale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Structure of Space-Time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1" descr="Stephen Hawking"/>
          <p:cNvPicPr/>
          <p:nvPr/>
        </p:nvPicPr>
        <p:blipFill>
          <a:blip r:embed="rId2"/>
          <a:stretch/>
        </p:blipFill>
        <p:spPr>
          <a:xfrm>
            <a:off x="6553080" y="39625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8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8440" y="13716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3" descr="Stephen Hawking"/>
          <p:cNvPicPr/>
          <p:nvPr/>
        </p:nvPicPr>
        <p:blipFill>
          <a:blip r:embed="rId1"/>
          <a:stretch/>
        </p:blipFill>
        <p:spPr>
          <a:xfrm>
            <a:off x="1447920" y="12193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pic1" descr="Stephen Hawking"/>
          <p:cNvPicPr/>
          <p:nvPr/>
        </p:nvPicPr>
        <p:blipFill>
          <a:blip r:embed="rId2"/>
          <a:stretch/>
        </p:blipFill>
        <p:spPr>
          <a:xfrm>
            <a:off x="6324480" y="41911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9840" y="16002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1240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1975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eceived the Alber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Einstein Award in th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oretical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988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wrote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A Brief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4038120"/>
            <a:ext cx="763272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"My goal is simple. It is 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understanding of the universe, w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t is as it is and why it exists at all."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00212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991800"/>
            <a:ext cx="7704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Stephen Hawking say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 try to lead as normal a life as possible, and not think about my condition. My disease has not prevented me from having a very attractive family, and being successful in my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1526400"/>
            <a:ext cx="7272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student of Hawking say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Stephen Hawking is my hero. As I read his ideas about space, time, black holes, and the Universe in which we live, I was amazed at how easily he explained the exciting but often complicated subjects explored in the book.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ahoma"/>
              </a:rPr>
              <a:t>Unit 20 Disability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43200" y="2057400"/>
            <a:ext cx="31021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1366200"/>
            <a:ext cx="7848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 is a man so gifted that, despite being unable to use pen and paper, he is able to solve problems by forming the necessary diagrams and manipulating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操作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e complex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equations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方程式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n his head.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144080"/>
            <a:ext cx="77817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991800"/>
            <a:ext cx="7705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3" descr="Stephen Hawking"/>
          <p:cNvPicPr/>
          <p:nvPr/>
        </p:nvPicPr>
        <p:blipFill>
          <a:blip r:embed="rId1"/>
          <a:srcRect l="4151" t="4151" r="3991" b="3991"/>
          <a:stretch/>
        </p:blipFill>
        <p:spPr>
          <a:xfrm>
            <a:off x="2819520" y="13716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82234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asking 'Can you hear me‘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t his Stanford Lectu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13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4724280"/>
            <a:ext cx="7543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tells Einstein, 'Wro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gain, Albert'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L. van Beethoven"/>
          <p:cNvPicPr/>
          <p:nvPr/>
        </p:nvPicPr>
        <p:blipFill>
          <a:blip r:embed="rId1"/>
          <a:stretch/>
        </p:blipFill>
        <p:spPr>
          <a:xfrm>
            <a:off x="2971800" y="990720"/>
            <a:ext cx="3243240" cy="424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666880" y="5181480"/>
            <a:ext cx="36734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Beethoven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1143360"/>
            <a:ext cx="72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8080" y="1068120"/>
            <a:ext cx="7705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410480"/>
            <a:ext cx="8209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Useful words &amp; expres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2 ,Page 43)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r>
              <a:rPr b="0" lang="zh-CN" sz="28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pefully tomorrow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 f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-78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	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54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Goals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教学目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. Getting close to disabl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eople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走近残疾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. Introduction about Stephen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介绍史帝文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霍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. Useful words &amp; expression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762120"/>
            <a:ext cx="756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ove to be, show the resul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证明是；结果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 was afraid the things won’t turn out smooth for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Do you think the crops will turn out well this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It turned out that he was Jim’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1799280"/>
            <a:ext cx="770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come out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出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e won’t turn ou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foggy wea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Crowds turned out for the procession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游行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722960"/>
            <a:ext cx="7719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produc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制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ur new factory is turning out large quantities of goo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school has turned out some first rate schola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4960" y="1676880"/>
            <a:ext cx="7002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4, Page 43) </a:t>
            </a: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’ve always dreamt of com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China, and now my dre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s come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1141560"/>
            <a:ext cx="7467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The soldier often dreamt of 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I wouldn’t dream of do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such a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When I was young, I  dreamed of becoming a  soldi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reamer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做梦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1296360"/>
            <a:ext cx="741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9, Page 43)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ut I’m determined to enjoy myself as much as possible, even though I can’t see every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213480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e won’t leave the TV set even though he is eating his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Even if we could afford it, we would not go abroad for our holiday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91880" y="1066680"/>
            <a:ext cx="52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1173960"/>
            <a:ext cx="76345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l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1-2, Page 44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case of Professor Stephen Hawking is one example of the many disabled people who have achieved success in their chosen field of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828800"/>
            <a:ext cx="69343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unable to use part of your body in the normal way, either from birth or because of an accident or illness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残疾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990720"/>
            <a:ext cx="7848720" cy="48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assengers ca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ravel free on public transpor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All rooms in the hotel have facilities for the disabl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ility 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at kind of people can be called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is your attitude towards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1294560"/>
            <a:ext cx="7561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ahoma"/>
              </a:rPr>
              <a:t>Fill in the blanks with the words given, and pay attention to the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221292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478880"/>
            <a:ext cx="78483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___ or when someone is ___ her? Can a deaf person wake up with an alarm clock? A __ person can do all of these, but deaf people need special ___ 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1143000"/>
            <a:ext cx="80010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ringing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or when someone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calling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r? Can a deaf person wake up with an alarm clock? A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hearing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person can do all of these, but deaf people need special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devices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14400" y="838080"/>
          <a:ext cx="6858000" cy="12002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 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 ____ Device for the deaf helps them talk on the phone. When the phone rings, a light flashes. The person picks up the phone, pu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on the TDD, _____ 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838080"/>
          <a:ext cx="6858000" cy="10051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elecommunication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Device for the deaf helps them talk on the phone. When the phone rings, a light flashes. The person picks up the phone, puts on the TDD,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838080"/>
          <a:ext cx="7010280" cy="120024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85800" y="24516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____ up to a blaring alarm? Deaf people use ____ clocks. The alarm ____ the pillow. It feels ____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838080"/>
          <a:ext cx="7010280" cy="115092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85800" y="220860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wak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up to a blaring alarm? Deaf people us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vibrat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ocks. The alarm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shak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pillow. It feels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like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6920" y="364680"/>
            <a:ext cx="7274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1. Do Ex.2 on Page 10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2. Make up two sentences for eac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word and phrase we’ve learn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o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3. *Find other information on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famous disabled people o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Interne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066680"/>
            <a:ext cx="853416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If you were a disabled person,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at kind of help do you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 get mo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What can we do to help tho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eople live a better lif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90920" y="152388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14600" y="16002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916280"/>
            <a:ext cx="316692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>
            <a:lum bright="18000"/>
          </a:blip>
          <a:srcRect l="0" t="0" r="10316" b="10297"/>
          <a:stretch/>
        </p:blipFill>
        <p:spPr>
          <a:xfrm>
            <a:off x="2819520" y="1447920"/>
            <a:ext cx="29667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14:30:35Z</dcterms:modified>
  <cp:revision>159</cp:revision>
  <dc:subject/>
  <dc:title>PowerPoint Presentation</dc:title>
</cp:coreProperties>
</file>